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440-2235-4518-A8DF-23CB19D3E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 fingerpri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4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fragment distribution is then analy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is used to solve crimes and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 science is the use of scientific knowledge in legal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profile of each individual is highl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ces of two people having exactly the same DNA profile is 30,000 million to 1 (except for identical twi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materials used for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issu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have been obtained from vaginal cells transferred to the outside of a condom during sexual inter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ing can solve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tern of the DNA profile is then compared with those of the victim and the susp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matches the suspect it provides strong evidence that the suspect was present at the crime scene (NB:it does not prove they committed the cr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file doesn’t match the suspect then that suspect may be eliminated from the enqui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olent murder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nsics team retrieved a blood sample from the crime sc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epared DNA profiles of the blood sample, the victim and a suspect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suspect at the crime sce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ct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from crime sc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ims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Medic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rofiles can be used to determine whether a particular person is the parent of a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lds paternity (father) and maternity(mother) can be determ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rmation can be us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ernity s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 Patern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omparing the DNA profil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and her child it is possi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DNA fragments in the chi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absent from the mother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therefore have been inheri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biological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man the father of the chi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NA Profi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used by scientists to distinguish between individuals of the same species using only samples of their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2 Elizabeth Hurley used DNA profiling to prove that Steve Bing was the fa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her child Dami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in Pitchfork was the first criminal caught based on DNA fingerprinting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rrested in 1986 for the rape and murder of two girls and was sentenced in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J. Simpson was cleared of a double murder charge in 1994 which relied heavily on DNA ev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highlighted lab difficul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Invent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DNA fingerprinting was invented by Alec Jeffreys at the University of Leicester in 198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knighted in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broke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leas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a small amount of DNA is available it can be amplified using the polymerase chain reaction (PC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cut into fragments using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striction enzyme cuts DNA at a specific bas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tions of DNA that are cut out are called restriction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s are separated on the basis of size using a process called gel electrophor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ragments are injected into wells and an electric current is applied along the g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negatively charged so it is attracted to the positive end of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DNA fragments move faster than the longer frag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eparated on basis of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DNA Prof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dioactive material is added which combines with the DNA fragments to produce a fluorescen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otographic copy of the DNA bands is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6B1-A7C1-4DE2-9F00-AA0105C5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E12-9685-4E7C-94E3-38454AF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221-C427-4982-ADCC-0ACEC409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335-DD5A-44E0-B93F-C37CA89F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E5AE-80D7-48CE-992A-E222380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74C7-96CA-48CF-AB6F-1C240CFE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703-0FAA-4EE6-8DA5-CD9827C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431-7602-41C6-AAF1-EFBD6EA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778F-F935-4BBF-886A-F2955CAA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0F43-1C7B-4F7F-AF4C-E969734F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D72-36D9-41CA-9126-8C4B0FD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866-F5BB-4332-80E8-EDD1D0E9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18A1-8C38-4C7D-A2F5-159EDEA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FBCF-64A6-49EF-98FB-6775D078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4296-E5C3-40D5-9F55-C1A5CAB9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EF3-B2B7-41D5-9FDB-99E69032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2F86-142A-4E72-AC9B-AC58B707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C57-0EA4-405D-90F8-3651799B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19B-2E8C-4717-923D-A52834E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428-1C5A-40B0-BAA0-97DFD721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7DA-2087-4EEA-8040-7A378D9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AFC-BC13-4125-9F89-5B5D06E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0E2-A723-487C-A962-887F5DB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56D-4BB0-4EF5-BCB7-63231C3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7874-58C5-4DBF-9FEF-2E215FFB7D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F6B-867C-4722-9DDC-74C8DBABAB23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700" spc="-1" strike="noStrike">
                <a:solidFill>
                  <a:srgbClr val="ffffcc"/>
                </a:solidFill>
                <a:latin typeface="Arial"/>
              </a:rPr>
              <a:t>DNA Profiling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aeaea"/>
                </a:solidFill>
                <a:latin typeface="Verdana"/>
              </a:rPr>
              <a:t>(DNA fingerprinting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Stage 4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pattern of fragment distribution is then analys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Us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DNA profiling is used to solve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crimes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medical proble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7" descr="MCIN01111_0000[1]"/>
          <p:cNvPicPr/>
          <p:nvPr/>
        </p:nvPicPr>
        <p:blipFill>
          <a:blip r:embed="rId1"/>
          <a:stretch/>
        </p:blipFill>
        <p:spPr>
          <a:xfrm>
            <a:off x="5219640" y="1773360"/>
            <a:ext cx="3600360" cy="29844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orensic science is the use of scientific knowledge in legal situ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DNA profile of each individual is highly specific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chances of two people having </a:t>
            </a:r>
            <a:r>
              <a:rPr b="0" lang="en-IE" sz="3200" spc="-1" strike="noStrike" u="sng">
                <a:solidFill>
                  <a:srgbClr val="eaeaea"/>
                </a:solidFill>
                <a:uFillTx/>
                <a:latin typeface="Verdana"/>
              </a:rPr>
              <a:t>exactly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the same DNA profile is 30,000 million to 1 (except for identical twins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Biological materials used for DNA profil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lo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Hai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aliv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Sem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Body tissue c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DNA samples have been obtained from vaginal cells transferred to the outside of a condom during sexual intercours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blood sample"/>
          <p:cNvPicPr/>
          <p:nvPr/>
        </p:nvPicPr>
        <p:blipFill>
          <a:blip r:embed="rId1"/>
          <a:stretch/>
        </p:blipFill>
        <p:spPr>
          <a:xfrm>
            <a:off x="5364000" y="1628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swab"/>
          <p:cNvPicPr/>
          <p:nvPr/>
        </p:nvPicPr>
        <p:blipFill>
          <a:blip r:embed="rId2"/>
          <a:stretch/>
        </p:blipFill>
        <p:spPr>
          <a:xfrm>
            <a:off x="5508720" y="4076640"/>
            <a:ext cx="2663640" cy="216072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DNA Profiling can solve crim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attern of the DNA profile is then compared with those of the victim and the suspec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matches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the suspect it provides strong evidence that the suspect was present at the crime scene (</a:t>
            </a: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NB:it does not prove they committed the crime)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f the profile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doesn’t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match the suspect then that suspect may be eliminated from the enqui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violent murder occurr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forensics team retrieved a blood sample from the crime scen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y prepared DNA profiles of the blood sample, the victim and a suspect as follow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Was the suspect at the crime scen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619280" y="1844640"/>
            <a:ext cx="6408720" cy="4248360"/>
          </a:xfrm>
          <a:prstGeom prst="rect">
            <a:avLst/>
          </a:prstGeom>
          <a:solidFill>
            <a:srgbClr val="3399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90800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Suspect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51280" y="206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Blood sample from crime sce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372360" y="21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Victims profil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97964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3924360" y="3357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227640" y="378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050920" y="393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076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924360" y="393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3924360" y="407664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6372360" y="472428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6372360" y="4869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050920" y="4653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2050920" y="522936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050920" y="537372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6227640" y="328464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050920" y="5877000"/>
            <a:ext cx="10083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3995640" y="537372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99564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3924360" y="4653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6372360" y="5229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6443640" y="587700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95640" y="5805360"/>
            <a:ext cx="100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olving Medical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profiles can be used to determine whether a particular person is the parent of a chil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childs paternity (father) and maternity(mother) can be determ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information can be used 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Paternity su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heritance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mmigration c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Example: A Paternity T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By comparing the DNA profile of 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other and her child it is possible 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identify DNA fragments in the chil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which are absent from the mother an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must therefore have been inherited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from the biological fath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cc"/>
                </a:solidFill>
                <a:latin typeface="Arial"/>
              </a:rPr>
              <a:t>Is this man the father of the child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76360" y="1700280"/>
            <a:ext cx="6335640" cy="44654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63640" y="19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oth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708360" y="19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Chil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94036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Verdana"/>
              </a:rPr>
              <a:t>Ma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90800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90800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635280" y="2708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635280" y="2924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96000" y="26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363528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796000" y="37162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1908000" y="4221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70836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5796000" y="4437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70836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1835280" y="486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796000" y="51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1835280" y="5373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1835280" y="5445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3708360" y="573408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Line 24"/>
          <p:cNvSpPr/>
          <p:nvPr/>
        </p:nvSpPr>
        <p:spPr>
          <a:xfrm>
            <a:off x="5796000" y="580536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Line 25"/>
          <p:cNvSpPr/>
          <p:nvPr/>
        </p:nvSpPr>
        <p:spPr>
          <a:xfrm>
            <a:off x="5796000" y="335772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5796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1908000" y="3429000"/>
            <a:ext cx="863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at is DNA Profiling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A technique used by scientists to distinguish between individuals of the same species using only samples of their DN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In 2002 Elizabeth Hurley used DNA profiling to prove that Steve Bing was the father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f her child Dam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9" descr="liz hurley steve bing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Colin Pitchfork was the first criminal caught based on DNA fingerprinting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arrested in 1986 for the rape and murder of two girls and was sentenced in 1988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Colin_Pitchfork"/>
          <p:cNvPicPr/>
          <p:nvPr/>
        </p:nvPicPr>
        <p:blipFill>
          <a:blip r:embed="rId1"/>
          <a:stretch/>
        </p:blipFill>
        <p:spPr>
          <a:xfrm>
            <a:off x="5076720" y="177336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Famous Cas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O.J. Simpson was cleared of a double murder charge in 1994 which relied heavily on DNA evidenc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is case highlighted lab difficultie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9" descr="O_J_Simpson"/>
          <p:cNvPicPr/>
          <p:nvPr/>
        </p:nvPicPr>
        <p:blipFill>
          <a:blip r:embed="rId1"/>
          <a:stretch/>
        </p:blipFill>
        <p:spPr>
          <a:xfrm>
            <a:off x="5076720" y="1700280"/>
            <a:ext cx="3672000" cy="37083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Who Invented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process of DNA fingerprinting was invented by Alec Jeffreys at the University of Leicester in 1985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He was knighted in 199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9" descr="alec Jeffreys"/>
          <p:cNvPicPr/>
          <p:nvPr/>
        </p:nvPicPr>
        <p:blipFill>
          <a:blip r:embed="rId1"/>
          <a:stretch/>
        </p:blipFill>
        <p:spPr>
          <a:xfrm>
            <a:off x="5292720" y="1844640"/>
            <a:ext cx="3240000" cy="3745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age 1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Cells are broken dow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o release D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If only a small amount of DNA is available it can be amplified using the polymerase chain reaction (PCR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7" descr="body cells"/>
          <p:cNvPicPr/>
          <p:nvPr/>
        </p:nvPicPr>
        <p:blipFill>
          <a:blip r:embed="rId1"/>
          <a:stretch/>
        </p:blipFill>
        <p:spPr>
          <a:xfrm>
            <a:off x="5292720" y="1844640"/>
            <a:ext cx="3382920" cy="3816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Step 2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The DNA is cut into fragments using </a:t>
            </a:r>
            <a:r>
              <a:rPr b="1" lang="en-IE" sz="2400" spc="-1" strike="noStrike">
                <a:solidFill>
                  <a:srgbClr val="eaeaea"/>
                </a:solidFill>
                <a:latin typeface="Verdana"/>
              </a:rPr>
              <a:t>restriction enzymes</a:t>
            </a: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Verdana"/>
              </a:rPr>
              <a:t>Each restriction enzyme cuts DNA at a specific base sequenc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11" descr="Restriction_enzyme"/>
          <p:cNvPicPr/>
          <p:nvPr/>
        </p:nvPicPr>
        <p:blipFill>
          <a:blip r:embed="rId1"/>
          <a:stretch/>
        </p:blipFill>
        <p:spPr>
          <a:xfrm>
            <a:off x="900000" y="4221000"/>
            <a:ext cx="7488360" cy="15130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e sections of DNA that are cut out are called </a:t>
            </a:r>
            <a:r>
              <a:rPr b="1" lang="en-IE" sz="3200" spc="-1" strike="noStrike">
                <a:solidFill>
                  <a:srgbClr val="eaeaea"/>
                </a:solidFill>
                <a:latin typeface="Verdana"/>
              </a:rPr>
              <a:t>restriction fragment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Verdana"/>
              </a:rPr>
              <a:t>This yields thousands of restriction fragments of all different sizes because the base sequences being cut may be far apart (long fragment) or close together (short fragment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aeaea"/>
                </a:solidFill>
                <a:latin typeface="Verdana"/>
              </a:rPr>
              <a:t>Stage 3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Fragments are separated on the basis of size using a process called </a:t>
            </a:r>
            <a:r>
              <a:rPr b="0" lang="en-IE" sz="2800" spc="-1" strike="noStrike" u="sng">
                <a:solidFill>
                  <a:srgbClr val="eaeaea"/>
                </a:solidFill>
                <a:uFillTx/>
                <a:latin typeface="Verdana"/>
              </a:rPr>
              <a:t>gel electrophoresi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fragments are injected into wells and an electric current is applied along the gel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agarose gel elcctrophoresis"/>
          <p:cNvPicPr/>
          <p:nvPr/>
        </p:nvPicPr>
        <p:blipFill>
          <a:blip r:embed="rId1"/>
          <a:stretch/>
        </p:blipFill>
        <p:spPr>
          <a:xfrm>
            <a:off x="4716360" y="1700280"/>
            <a:ext cx="4025880" cy="4249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negatively charged so it is attracted to the positive end of the ge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The shorter DNA fragments move faster than the longer fragment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DNA is separated on basis of siz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8" descr="agarose gel electrophoresis 2"/>
          <p:cNvPicPr/>
          <p:nvPr/>
        </p:nvPicPr>
        <p:blipFill>
          <a:blip r:embed="rId1"/>
          <a:stretch/>
        </p:blipFill>
        <p:spPr>
          <a:xfrm>
            <a:off x="4762440" y="1628640"/>
            <a:ext cx="3986280" cy="4243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cc"/>
                </a:solidFill>
                <a:latin typeface="Arial"/>
              </a:rPr>
              <a:t>Stages of DNA Profi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radioactive material is added which combines with the DNA fragments to produce a fluorescent imag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Verdana"/>
              </a:rPr>
              <a:t>A photographic copy of the DNA bands is obtained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DNA bands photo"/>
          <p:cNvPicPr/>
          <p:nvPr/>
        </p:nvPicPr>
        <p:blipFill>
          <a:blip r:embed="rId1"/>
          <a:stretch/>
        </p:blipFill>
        <p:spPr>
          <a:xfrm>
            <a:off x="5219640" y="177336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5:37:53Z</dcterms:created>
  <dc:creator>nctcc</dc:creator>
  <dc:description/>
  <dc:language>en-US</dc:language>
  <cp:lastModifiedBy>LEGION2</cp:lastModifiedBy>
  <dcterms:modified xsi:type="dcterms:W3CDTF">2016-01-12T10:27:19Z</dcterms:modified>
  <cp:revision>18</cp:revision>
  <dc:subject/>
  <dc:title>Gel Electrophoresis</dc:title>
</cp:coreProperties>
</file>